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F4C6FC-CADE-44BD-8582-E81FB2F685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571E36-3384-4493-817E-9A2085EBCB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14391F-2110-48D0-B67A-596A72AED3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09456C-60A8-43E4-8BD3-1E5B96B71F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57967C-EDF6-4611-8BA1-68F356C54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DEA745-6DA9-4190-9C67-4E189D631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7057DF-A592-4E4D-B2E3-B25F0C813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74D385-A46F-4DAE-B287-F1B427A2F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AEE4B9-CEB3-47D4-8B16-2734C1D93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276E40-35B0-4D09-9BA4-7847B05F5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AAEB21-C53C-4536-BF81-447F96728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B70D1A-3FBA-485B-9884-C613FAF77D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FFEF38-B6C8-4393-8C2C-69885716B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3B768E-7C18-4970-9C00-FE4E3C2BD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52B06B-0384-42B4-B6D0-18D2143CC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B846EB-B6F3-4D74-BC28-1A38450B9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555A08-5396-4169-8BD2-BED65A8AB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B133BD-3EE2-4C43-B80C-4FC2FFDB46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49D197-8BB9-4434-A177-FEC749EF18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1BF152-8F1B-4666-B2FD-2CB62977AB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2C77EF-B3A3-4C47-BFC2-0D769CC89D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3E37DB-B472-4DBA-8A47-D0FB1D6CED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3F9DDB-F086-42F8-8C25-901AF142FE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9BD277-28B8-4BBE-9432-22A51451BB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FA009-66B3-4391-90C7-75F1FDBC01AE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8FB48-2C56-4FD1-9185-67788613A199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27780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emo(DierckxSplin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ludes examples with data discus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0"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ignette(DierckxSplin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e"/>
              </a:rPr>
              <a:t>Provides more details on the spline fitting and algorith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e"/>
              </a:rPr>
              <a:t>Includes relevant sections from DierckxSpline (199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792571-9783-4F9F-94C7-B05F636D906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6A37AC-C93E-4BA7-AEFC-11E056E5180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BEBB87-3F3B-487F-8FA6-27556904309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knots(f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knots(f3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F677DA-3CA4-4ED9-BB2A-132CC0DCA1D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CC76A6-760D-4217-9FD2-C941645026C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A9945F-B659-4C08-BDC8-4D7F5DE75A0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B23810-30D1-46AA-9C47-317CBAE5CFB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for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27F67C-6944-4E4C-8EB8-F3B6E158EF3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141057-D2B9-49D8-ABB5-66F861B6A59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AEFC9E-D752-44C0-A5C8-624E22CAED5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AC1E59-D44B-42E9-BADA-420D70A20A6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F4EC87-1D3C-43D6-A0AE-FFED0C65ACA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300071-E25C-45BD-81B9-28CB9332807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4EE8C5-3E17-48C5-BC67-76D5BB8CB81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7-08-18T20:30:08Z</dcterms:modified>
  <cp:revision>162</cp:revision>
  <dc:subject/>
  <dc:title>minSpline: An R Package For Minimal Knot Splines</dc:title>
</cp:coreProperties>
</file>